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00FE6-6C38-4538-BBB3-64F97B93E4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E5978-AE33-434B-A9F2-0AD839758D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2D4AB-2165-488A-9780-5EC489F6E4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EE7F0-D952-4B0A-9382-315E5D16B9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880080-293E-4618-AE4D-8A606634F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821A63-D6AA-4D38-AFBB-9A89690CF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8734EC-793E-4AB3-9662-FBCF98A93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0562E9-F3DC-4FA2-923A-52D008189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5AF1FD-989A-4A77-BED4-85CCEC90D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2AA35A-1BA5-4539-9DEC-6C81FB78A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3A05C3-65AD-4478-96A0-23A2E0D2F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D9129-E5E0-41EA-87B2-552AB99763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F72CC1-569E-43B2-842D-24705C677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2E41FB-DAB1-402D-8F8F-8BE2E1541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CF1FD9-3A07-4043-B981-FA7C5AA62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9ADF3B-03EE-4B11-B37D-1E5C14DDF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A3DD2E-C93D-4F4B-8F91-516E4CFB2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F4106-E8F5-4DC5-9862-02CC4ABB65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5595A-7A94-4B74-8FE8-DE0B24E830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C18FA-BA0F-4F73-952D-73BDED354D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CAA43-547F-49FC-8316-A77A9B41B0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D003E-F2AD-407E-BC7F-FC8EF95746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6FFBC-A587-4D28-920B-1D151F727A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3A8BA-ED09-421A-9DB7-651072F403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C0103-58B7-4D0A-A9F9-1AA91AE4C7EA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5D0AA-D610-4AC2-9C4F-C71C27DD58F7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emo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s examples with data discus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ignette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Provides more details on the spline fitting and algorith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Includes relevant sections from DierckxSpline (199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265E7-A708-4210-B7D4-828700A07C6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A0AEA-9384-4207-873D-23AE51D7245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038C3-5E88-4EBE-8C17-C6FF1A981B5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237B6-3C72-4D78-9BDF-CEE5FAB4252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4BDD1-A060-451B-9A92-ACBF9E07FAB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47077-EB64-4C0C-97BF-0E3DE4954C6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CDC8D-4A3F-4297-BA55-E5AD7C7D444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for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5FE7E-D3A3-42E8-9EDA-56210AE646B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7EF19-DA3A-4837-9E27-61DBCF33EC5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D84B5-15D4-4710-A43A-9DF46CE317E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A1A20-6402-4834-A8DA-875CC587744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A995B-7EC6-4C6C-877D-1654421DD77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1DE8A-A74D-42AE-A1D1-EDF0219C708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CF144-12AA-45E8-B5B5-039DEEEC0E2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05T23:33:15Z</dcterms:modified>
  <cp:revision>164</cp:revision>
  <dc:subject/>
  <dc:title>minSpline: An R Package For Minimal Knot Splines</dc:title>
</cp:coreProperties>
</file>